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526-DE3B-480E-8586-C81FEA46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AD8-5BCF-4DEA-8A32-CD14B84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640-FD73-4D98-AEB7-BF78A217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BD9-FC83-49DB-BD5E-6C8E648D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76B9-BD84-4963-85C6-FC7DA646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1B32-1380-46B6-A3D5-22D038F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3A68-60F3-4A50-A986-EAF06B3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1B0C-BFB3-4E80-8071-78C1A3C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1C86-80BF-4FED-AD48-272ECBD4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067-7EA4-46D2-A782-A5CBC0CE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36EC-601C-4AF6-B177-AC48099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47C-F0CB-47C0-AA7C-CC9AB8A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0920-4C1F-4577-876A-CE7FDAB5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CECB-81AB-41C4-8428-71DB36C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8A89-DAF0-4335-AD1E-95487910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049-5935-4DF9-B621-177ACBF9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A414-42D3-42CF-A703-6E0DE156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8592-BE57-4B37-B4F6-E2DA557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7B71-F94F-4DA4-B7DC-F7D4E41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B10F-AA18-42A8-BD43-C25210B4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23F5-CFC7-490A-958A-13B1E426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97FC-890D-40DC-AFBC-CB902402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B18-9D00-4AF0-B1A5-7C0D82EE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50BC-D55C-4A3B-8B7B-4E083098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2435-4931-4934-B699-301C821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C84B-F501-4F4D-86D9-7ECDC85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3956-B0C5-4235-AB6E-C45B11CC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02C2-1F56-47B8-9B29-EAFED9C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80B5-AA72-4577-9A1B-914BF7B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9EAA-A0FD-4E43-BF83-ADC37344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E46C-B060-4B71-926D-CBF01F6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E91D-8A68-4771-8250-1AC54707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111C-D156-448A-9AF8-94F6C5ED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FA1-DAEE-41D2-BBA0-EC17ABD7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D9EC-E798-42AF-8B64-95410BB1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72C5-2ABD-4528-954F-D06120D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22E5-29B4-4F08-9F53-0EA5F95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78FB-D486-4BF1-AD55-0E459B2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372B-41AF-4C89-B2BC-530DD131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8D64-B778-48D9-93B4-80341D70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76EF-E85C-430F-A584-BA1BDE9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FD40-71F6-44E7-B237-2A494D99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5CA0-3A71-480B-A69D-2E0F41A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74F-C03A-420F-BB6C-80846AF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3A4-BC51-4182-AA20-462A612E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857-2F96-4F07-9B02-1E87638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8C7-24E1-473D-964F-089DD414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591-1D9E-4CF8-9B6C-6C7B906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995-B640-44D5-A7BC-545104CA67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3BD9-2904-4504-BEEF-778D72DE93F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409-1BF8-4845-9B38-945714E85FA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E781-1D4B-4EDE-BE8B-65BAAD6FAF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Spreadshee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Pivot table for the data so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and automotive sales will be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Max of Aug-08 for each Type and automotive s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2ED-7AC5-4E80-9C74-3FD8C13348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C903-93B9-41CB-B45E-6FBDDEDBE2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5800" y="609480"/>
          <a:ext cx="6705720" cy="5567400"/>
        </p:xfrm>
        <a:graphic>
          <a:graphicData uri="http://schemas.openxmlformats.org/drawingml/2006/table">
            <a:tbl>
              <a:tblPr/>
              <a:tblGrid>
                <a:gridCol w="2276640"/>
                <a:gridCol w="3274920"/>
                <a:gridCol w="115416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of Aug-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otive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/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-duty Truc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which variables are required to be in rows and which are required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check the function required; e.g. max and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 ask yourself if the answer is corre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18E6-C910-48E8-B7E3-63893D43A4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market share percentages for the top twenty vehicle sales in August 2008? Use a chart to display this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626-3045-42D8-8BFB-941B68F19C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Quiz 1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at least 5 minutes ea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your photo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write your name and sign the handout she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turn back the handout at the end of the ex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ternet Browsing, chatting, or Cell 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will be through blackbo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27FB-F64C-4A9A-AE1D-E9E231552E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excel sheet from my webp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hybrid vehicle sales from January 2004 to May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boarder color to red and its width to 1.25 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legend and gridlines from the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major vertical gridlines to the ch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vertical and horizontal axis to 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F2B7-809B-442A-BDE3-AD26A18F48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5D16-F443-4E5B-B6EE-EF24BEE7BA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4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itional column “ rank” that comes from a lookup table to achieve the foll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30000, rank =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20000, rank = 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10000, rank = 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50000, rank =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rank=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DFA2-6A4B-4E1A-84B4-43F231E967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D02A-9737-481E-A82E-A93502CFCC8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1960" y="1397160"/>
          <a:ext cx="1540080" cy="4897440"/>
        </p:xfrm>
        <a:graphic>
          <a:graphicData uri="http://schemas.openxmlformats.org/drawingml/2006/table">
            <a:tbl>
              <a:tblPr/>
              <a:tblGrid>
                <a:gridCol w="947880"/>
                <a:gridCol w="5922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 lookup tables must be in an ascending 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bsolute reference to fill out the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use $A$1:$A$5 Instead of A1:A5 for values that you don’t want its location to change in fill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 value of 0 for rank E, so that any value from 0 to 500 will be 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 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A1A6-CB5C-4646-B6D5-C3C9324501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other column rank2 to calculate the same function in slide 5 using 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logical expression, true value, false valu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F(A2&gt;200,”A”,IF(A2&gt;400,”B”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44D-6E0D-442D-8C36-8C617E623E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quotes for string, e.g. “A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your brackets bala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commas or don’t add additional com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&gt;= if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3A2B-911E-4B11-B4C4-885EE05F7C1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2T13:25:54Z</dcterms:modified>
  <cp:revision>121</cp:revision>
  <dc:subject/>
  <dc:title>CPSC 203</dc:title>
</cp:coreProperties>
</file>